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23F6-2C55-48E5-9A41-AF1E8CB2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2933-65AE-4F38-BF6D-33F28BD8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BE8-6632-47B4-A4BD-4CA37161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9D76-8884-4453-AAD6-8E14AF66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D734-F0ED-439C-8030-9E0CCC1E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520C-7FE9-4E53-A562-9C9C77A6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E918-B20B-4395-9010-1A943321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BE69-CF09-4F4C-ABD2-C4E2C388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000B-9252-4B33-A1B0-0FBBECCE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D657-89AB-4241-92F8-FF88A245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7230-B02C-4080-A237-8756BD49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738-50FD-42F5-9C26-220B40D8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BB81-8D79-4696-8BF6-38D6C0FC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0882-8C94-45D6-AF92-0743C596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B4F9-CE95-469D-BD25-339E6C26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5B91-8F28-43C8-9B3C-1A79A0CD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2DD5-C7B1-46A7-BE2E-87DA4936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B3B-5F60-49FA-9587-DFBCFA7B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568C-48B3-4FB0-92B6-7EAB1283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0522-879E-47A1-B4CD-9127B7FC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341-40BE-4162-A47A-D6567FBA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56E1-54AD-45BA-8F27-B1A82231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310-31DF-4FCA-8950-F356588E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782-3E64-496E-871B-DA45AA77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C3E1-8C2E-4272-A264-473456C3AC1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6D81-68BF-433C-8846-B9E8054D618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600" spc="-1" strike="noStrike">
                <a:solidFill>
                  <a:srgbClr val="ffff99"/>
                </a:solidFill>
                <a:latin typeface="Times New Roman"/>
              </a:rPr>
              <a:t>Sucessos e Fracassos em </a:t>
            </a:r>
            <a:br>
              <a:rPr sz="5600"/>
            </a:br>
            <a:br>
              <a:rPr sz="3400"/>
            </a:br>
            <a:r>
              <a:rPr b="0" lang="pt-BR" sz="5600" spc="-1" strike="noStrike">
                <a:solidFill>
                  <a:srgbClr val="ffff99"/>
                </a:solidFill>
                <a:latin typeface="Times New Roman"/>
              </a:rPr>
              <a:t>Estratégica Logística</a:t>
            </a:r>
            <a:br>
              <a:rPr sz="5000"/>
            </a:br>
            <a:br>
              <a:rPr sz="3400"/>
            </a:br>
            <a:r>
              <a:rPr b="0" lang="pt-BR" sz="3400" spc="-1" strike="noStrike">
                <a:solidFill>
                  <a:srgbClr val="ffff99"/>
                </a:solidFill>
                <a:latin typeface="Times New Roman"/>
              </a:rPr>
              <a:t>Prof. Luciel</a:t>
            </a:r>
            <a:endParaRPr b="0" lang="en-US" sz="3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967280" y="5157360"/>
            <a:ext cx="4176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imes New Roman"/>
              </a:rPr>
              <a:t>Rodrigo Marque Denta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imes New Roman"/>
              </a:rPr>
              <a:t>Administraçã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imes New Roman"/>
              </a:rPr>
              <a:t>7º semest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imes New Roman"/>
              </a:rPr>
              <a:t>RA 15493-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ff99"/>
                </a:solidFill>
                <a:latin typeface="Times New Roman"/>
              </a:rPr>
              <a:t>Shiniko-Izza do Brasil</a:t>
            </a:r>
            <a:endParaRPr b="0" lang="en-US" sz="5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ui extenso catálogo on-line de produtos de difícil visualização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ão possui controle de estoque, ocorrendo falta de produtos na entreg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dedores despreparado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bra de contratos firmados, como fretes, 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ff99"/>
                </a:solidFill>
                <a:latin typeface="Times New Roman"/>
              </a:rPr>
              <a:t>Shiniko-Izza do Brasil</a:t>
            </a:r>
            <a:endParaRPr b="0" lang="en-US" sz="5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99"/>
                </a:solidFill>
                <a:latin typeface="Times New Roman"/>
              </a:rPr>
              <a:t>McDonald’s Brasil </a:t>
            </a:r>
            <a:br>
              <a:rPr sz="4000"/>
            </a:br>
            <a:r>
              <a:rPr b="0" lang="pt-BR" sz="4000" spc="-1" strike="noStrike">
                <a:solidFill>
                  <a:srgbClr val="ffff99"/>
                </a:solidFill>
                <a:latin typeface="Times New Roman"/>
              </a:rPr>
              <a:t>Parque Dom Pedro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mbora seja uma empresa bem conceituada também possui problemas com logístic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ato real apontado abaixo, refere-se à distribuição de produto promociona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- McLanche Feliz com brinde diferente para meninos e meninas, ocorrendo a falta do brinde masculino, sendo entregue o feminino para todos, trazendo insatisfação e tumul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99"/>
                </a:solidFill>
                <a:latin typeface="Times New Roman"/>
              </a:rPr>
              <a:t>McDonald’s Brasil </a:t>
            </a:r>
            <a:br>
              <a:rPr sz="4000"/>
            </a:br>
            <a:r>
              <a:rPr b="0" lang="pt-BR" sz="4000" spc="-1" strike="noStrike">
                <a:solidFill>
                  <a:srgbClr val="ffff99"/>
                </a:solidFill>
                <a:latin typeface="Times New Roman"/>
              </a:rPr>
              <a:t>Parque Dom Pedro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99"/>
                </a:solidFill>
                <a:latin typeface="Times New Roman"/>
              </a:rPr>
              <a:t>Sorveteria Serge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bora possua bons produtos possui dificuldades no atendimento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resa familiar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érios problemas aos fins de semana devido a cultura religiosa dos funcionários, quando o movimento é maior e ocorre a compensação de folgas por não trabalharem aos sábad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99"/>
                </a:solidFill>
                <a:latin typeface="Times New Roman"/>
              </a:rPr>
              <a:t>Sorveteria Serge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2698560" cy="2133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2808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Times New Roman"/>
              </a:rPr>
              <a:t>Melhores organizações </a:t>
            </a:r>
            <a:endParaRPr b="0" lang="en-US" sz="5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uem os melhores e mais bem treinados funcionário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stema de informação completo e dinâmico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ometimento com entrega, qualidade, satisfação do client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ilidade e fluxo na movimentação de materi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Times New Roman"/>
              </a:rPr>
              <a:t>Piores organizações</a:t>
            </a:r>
            <a:endParaRPr b="0" lang="en-US" sz="5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uem funcionários despreparados e sem iniciativ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lta de planejamento e coordenação de estoqu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ão possuem comprometimento com o client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Times New Roman"/>
              </a:rPr>
              <a:t>Ranking das Melhores</a:t>
            </a:r>
            <a:endParaRPr b="0" lang="en-US" sz="5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ransportadora Rápido 9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quarius - Comércio de Derivados de Petróleo Lt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finaria de Paulínia (REPLAN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Times New Roman"/>
              </a:rPr>
              <a:t>Transportadora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Rápido 90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60200"/>
            <a:ext cx="896472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adora está no mercado há cinco década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ui sistema integrado de informatização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ui itinerário fixo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ém deste transporte também gerencia armazéns de estocagem de produto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51680" y="260280"/>
            <a:ext cx="71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Times New Roman"/>
              </a:rPr>
              <a:t>Transportadora Rápido 90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ffff99"/>
                </a:solidFill>
                <a:latin typeface="Times New Roman"/>
              </a:rPr>
              <a:t>Aquarius – Comércio de Derivados de Petróleo Ltda</a:t>
            </a:r>
            <a:endParaRPr b="0" lang="en-US" sz="4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ui sistema informatizado de pedidos completo e funcional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ionários altamente qualificado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ronização nas mercadorias e sistema de entrega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omisso com prazos e qualidade no atendim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ffff99"/>
                </a:solidFill>
                <a:latin typeface="Times New Roman"/>
              </a:rPr>
              <a:t>Aquarius – Comércio de Derivados de Petróleo Ltda</a:t>
            </a:r>
            <a:endParaRPr b="0" lang="en-US" sz="4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99"/>
                </a:solidFill>
                <a:latin typeface="Times New Roman"/>
              </a:rPr>
              <a:t>Refinaria de Paulínia (REPLAN)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odas as retiradas são feitas por programação antecipada através da central de atendimento ou pelo sit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a programação consta o horário de carregamento, sequência de veículo, conseguindo assim planejar corretamente as viagen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trole de qualidade rigoroso, com sorteio inesperado dos veícul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99"/>
                </a:solidFill>
                <a:latin typeface="Times New Roman"/>
              </a:rPr>
              <a:t>Refinaria de Paulínia (REPLAN)</a:t>
            </a:r>
            <a:endParaRPr b="0" lang="en-US" sz="47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Times New Roman"/>
              </a:rPr>
              <a:t>Ranking das Piores</a:t>
            </a:r>
            <a:endParaRPr b="0" lang="en-US" sz="5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hiniko-Izza do Brasi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cDonald’s Brasil – Parque Dom Pedr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orveteria Sergel</a:t>
            </a: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6:57:46Z</dcterms:created>
  <dc:creator>User</dc:creator>
  <dc:description/>
  <dc:language>en-US</dc:language>
  <cp:lastModifiedBy>User</cp:lastModifiedBy>
  <dcterms:modified xsi:type="dcterms:W3CDTF">2011-03-20T18:41:02Z</dcterms:modified>
  <cp:revision>13</cp:revision>
  <dc:subject/>
  <dc:title>Sucessos e Fracassos em   Estratégica Logística</dc:title>
</cp:coreProperties>
</file>